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FF46-E46B-4F7A-9530-9917E150D0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CESS C. BARCE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G SCHOOL, MANAMA, BAH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 hosted on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 is a bar graph that shows the frequency of data within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space in between the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no space in between the ba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below shows the number of hours students watch TV in one week Make a histogram of all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frequency table of the data. Be sure to use equal interv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n appropriate scale and interval for the vertical axis. The greatest value on the scale should be at least as great as the greatest frequen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n appropriate scale and interval for the vertical axis. The greatest value on the scale should be at least as great as the greatest frequenc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bar for each interval. The height of the bar is the frequency for that interval. Bars must touch but not overla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bar for each interval. The height of the bar is the frequency for that interval. Bars must touch but not overla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give the graph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now make a bar graph, double bar Graph and a 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st below shows the results of a typing test in words per minute. Make a histogram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2, 55, 68, 47, 50, 41, 62, 39, 54, 70, 56, 70, 56, 47, 71, 55, 60, 4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gra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know ab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gr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ale should include all the data values and be easily divided into equal interv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interpret a 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of Mr. Snowden’s students are not band membe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ar graph shows Mr. Snowden’s students by gender and band membersh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interpret a 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of Mr. Snowden’s students are not band memb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Bar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to make a Double-Bar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country’s data. Use different colors to show males and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el the axes and   give the graph a tit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key to show what each bar repres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a Double-Bar Gra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country’s data. Use different colors to show males and fema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the axes and   give the graph a tit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 key to show what each bar repres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ble shows the highway speed limits on interstate roads  .within three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ose a scale and interval for the vertical ax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ose a scale and interval for the vertical ax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aw a pair of bars for each state’s data. Use different colors to show urban and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pair of bars for each state’s data. Use different colors to show urban and rur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DD2C-F53B-4836-AC20-9000A6B0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37D-B555-47B0-848B-54B9787F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70C1-A522-4CA0-B9E4-36FDB2446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E8A-3ADD-4267-A785-24DCC941A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58080-2A95-40B8-84D5-7AC7BFDF6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C73D6-3F4F-40EF-9202-759143C3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B1FD4-5BC7-47E1-9084-E2C5C819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555E-55F4-428A-81A5-89A3B61B5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54C5-E8FA-45D0-8BC4-396023DC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34C-62E7-40D8-B34F-6636D0FC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A102-BC62-4986-AFFE-C97CDAB9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B4E8-AF42-4812-810A-F9124CF5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B2E67-F85F-42E0-BBE1-75AA201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A03A8-6BD3-434A-B913-86F9092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8C13-53C7-40D6-9826-E988F56C4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94570-6880-463E-ACB1-F565473B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03A92-2318-4843-AC27-3631C596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584-16FB-4BE0-AEE4-E25D18DDC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5FC-4924-4768-AC79-4F1A3448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97A-24D4-4D72-82B1-D50BD1393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0FD1-AC24-4CEC-939B-78275386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65EE-DA09-480B-8B6F-6DC853F6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F4D6-C41C-4A55-977E-C288CD87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33E3-C0CC-4D84-8350-ED4AF139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74DB-0AFB-4A82-9235-7A02B4DBD657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 algn="r" rtl="1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 algn="r" rtl="1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 algn="r" rtl="1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B6BB-7883-4B7A-BDFE-C9A2FAEB0DAF}" type="slidenum">
              <a:rPr b="0" lang="ar-S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ar Graphs and Histograms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324000" y="3860640"/>
            <a:ext cx="424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PRINCESS C. BARC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05c"/>
                </a:solidFill>
                <a:latin typeface="Arial"/>
              </a:rPr>
              <a:t>APG SCHOOL, MANAMA, BAH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400" y="6324480"/>
            <a:ext cx="321192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werpoint hosted on </a:t>
            </a:r>
            <a:r>
              <a:rPr b="0" lang="en-US" sz="1200" spc="-1" strike="noStrike" u="sng">
                <a:solidFill>
                  <a:srgbClr val="e4005c"/>
                </a:solidFill>
                <a:uFillTx/>
                <a:latin typeface="Times New Roman"/>
                <a:hlinkClick r:id="rId1"/>
              </a:rPr>
              <a:t>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 and 4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133720"/>
            <a:ext cx="3124440" cy="2620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bel the axes and give the graph a tit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key to show what each bar repres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7"/>
          <p:cNvGraphicFramePr/>
          <p:nvPr/>
        </p:nvGraphicFramePr>
        <p:xfrm>
          <a:off x="3780000" y="1844640"/>
          <a:ext cx="4706640" cy="420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844640"/>
                    <a:ext cx="470664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Text Box 8"/>
          <p:cNvSpPr/>
          <p:nvPr/>
        </p:nvSpPr>
        <p:spPr>
          <a:xfrm rot="16200000">
            <a:off x="2595240" y="353196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ed Limit (mi/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7380360" y="213372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>
            <a:off x="7596360" y="2565360"/>
            <a:ext cx="287280" cy="216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7596360" y="2205000"/>
            <a:ext cx="287280" cy="216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427640" y="134136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Limit on Interstate Ro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istogram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 is a bar graph that shows the frequency of data within equal interv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space in between the ba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11280" y="21337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histogram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333360"/>
            <a:ext cx="693108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The table below shows the number of hours students watch TV in one week Make a histogram of all the data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771640" y="1557360"/>
          <a:ext cx="5805720" cy="5133960"/>
        </p:xfrm>
        <a:graphic>
          <a:graphicData uri="http://schemas.openxmlformats.org/drawingml/2006/table">
            <a:tbl>
              <a:tblPr/>
              <a:tblGrid>
                <a:gridCol w="693720"/>
                <a:gridCol w="2210040"/>
                <a:gridCol w="795240"/>
                <a:gridCol w="2106720"/>
              </a:tblGrid>
              <a:tr h="82008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Line 55"/>
          <p:cNvSpPr/>
          <p:nvPr/>
        </p:nvSpPr>
        <p:spPr>
          <a:xfrm>
            <a:off x="3564000" y="414972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56"/>
          <p:cNvSpPr/>
          <p:nvPr/>
        </p:nvSpPr>
        <p:spPr>
          <a:xfrm>
            <a:off x="370836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7"/>
          <p:cNvSpPr/>
          <p:nvPr/>
        </p:nvSpPr>
        <p:spPr>
          <a:xfrm>
            <a:off x="3708360" y="5805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59"/>
          <p:cNvSpPr/>
          <p:nvPr/>
        </p:nvSpPr>
        <p:spPr>
          <a:xfrm>
            <a:off x="6588000" y="3357720"/>
            <a:ext cx="36036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60"/>
          <p:cNvSpPr/>
          <p:nvPr/>
        </p:nvSpPr>
        <p:spPr>
          <a:xfrm>
            <a:off x="6588000" y="5013360"/>
            <a:ext cx="36036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26560" y="404640"/>
            <a:ext cx="3124440" cy="18288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a frequency table of the data. Be sure to use equal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50920" y="2852640"/>
          <a:ext cx="4680000" cy="3108600"/>
        </p:xfrm>
        <a:graphic>
          <a:graphicData uri="http://schemas.openxmlformats.org/drawingml/2006/table">
            <a:tbl>
              <a:tblPr/>
              <a:tblGrid>
                <a:gridCol w="504720"/>
                <a:gridCol w="1835280"/>
                <a:gridCol w="641160"/>
                <a:gridCol w="1698840"/>
              </a:tblGrid>
              <a:tr h="51840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III -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076720" y="1844640"/>
          <a:ext cx="3780000" cy="281628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Line 77"/>
          <p:cNvSpPr/>
          <p:nvPr/>
        </p:nvSpPr>
        <p:spPr>
          <a:xfrm>
            <a:off x="900000" y="450864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78"/>
          <p:cNvSpPr/>
          <p:nvPr/>
        </p:nvSpPr>
        <p:spPr>
          <a:xfrm>
            <a:off x="971640" y="501336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9"/>
          <p:cNvSpPr/>
          <p:nvPr/>
        </p:nvSpPr>
        <p:spPr>
          <a:xfrm>
            <a:off x="971640" y="5516640"/>
            <a:ext cx="35856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80"/>
          <p:cNvSpPr/>
          <p:nvPr/>
        </p:nvSpPr>
        <p:spPr>
          <a:xfrm>
            <a:off x="3348000" y="4005360"/>
            <a:ext cx="358920" cy="288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5280" y="-243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79280" y="2997360"/>
          <a:ext cx="3743280" cy="2815920"/>
        </p:xfrm>
        <a:graphic>
          <a:graphicData uri="http://schemas.openxmlformats.org/drawingml/2006/table">
            <a:tbl>
              <a:tblPr/>
              <a:tblGrid>
                <a:gridCol w="1873440"/>
                <a:gridCol w="186984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3640" y="620640"/>
            <a:ext cx="8659800" cy="122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n appropriate scale and interval for the vertical axis. The greatest value on the scale should be at least as great as the greatest frequ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37"/>
          <p:cNvGraphicFramePr/>
          <p:nvPr/>
        </p:nvGraphicFramePr>
        <p:xfrm>
          <a:off x="4133880" y="2049480"/>
          <a:ext cx="458316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33880" y="2049480"/>
                    <a:ext cx="458316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392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716360" cy="266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bar for each interval. The height of the bar is the frequency for that interval. Bars must touch but not overla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400" spc="-1" strike="noStrike">
                <a:solidFill>
                  <a:srgbClr val="ffffff"/>
                </a:solidFill>
                <a:latin typeface="Arial"/>
              </a:rPr>
              <a:t>Label the axes and give the graph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6"/>
          <p:cNvGraphicFramePr/>
          <p:nvPr/>
        </p:nvGraphicFramePr>
        <p:xfrm>
          <a:off x="4643280" y="404640"/>
          <a:ext cx="4500720" cy="608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404640"/>
                    <a:ext cx="4500720" cy="608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250920" y="3860640"/>
          <a:ext cx="4103640" cy="2816280"/>
        </p:xfrm>
        <a:graphic>
          <a:graphicData uri="http://schemas.openxmlformats.org/drawingml/2006/table">
            <a:tbl>
              <a:tblPr/>
              <a:tblGrid>
                <a:gridCol w="2054160"/>
                <a:gridCol w="2049480"/>
              </a:tblGrid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umber of hours of T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-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Object 6"/>
          <p:cNvGraphicFramePr/>
          <p:nvPr/>
        </p:nvGraphicFramePr>
        <p:xfrm>
          <a:off x="2685960" y="404640"/>
          <a:ext cx="6112080" cy="645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5960" y="404640"/>
                    <a:ext cx="6112080" cy="645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an you now make a bar graph, double bar Graph and a histogra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411280" y="907560"/>
            <a:ext cx="6400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st below shows the results of a typing test in words per minute. Make a histogram of the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2, 55, 68, 47, 50, 41, 62, 39, 54, 70, 56, 70, 56, 47, 71, 55, 60, 4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0039"/>
                </a:solidFill>
                <a:latin typeface="Arial"/>
              </a:rPr>
              <a:t>What do you know about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uble bar grap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istogr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99" name="Object 8"/>
          <p:cNvGraphicFramePr/>
          <p:nvPr/>
        </p:nvGraphicFramePr>
        <p:xfrm>
          <a:off x="836640" y="1596960"/>
          <a:ext cx="470232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6640" y="1596960"/>
                    <a:ext cx="470232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r graph can be used to display and compa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cale should include all the data values and be easily divided into equal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64008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How to interpret a Bar Graph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58920" y="2565360"/>
            <a:ext cx="3340080" cy="41054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any of Mr. Snowden’s students are not band 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6"/>
          <p:cNvGraphicFramePr/>
          <p:nvPr/>
        </p:nvGraphicFramePr>
        <p:xfrm>
          <a:off x="4716360" y="2349360"/>
          <a:ext cx="4114800" cy="418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2349360"/>
                    <a:ext cx="4114800" cy="41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7"/>
          <p:cNvSpPr/>
          <p:nvPr/>
        </p:nvSpPr>
        <p:spPr>
          <a:xfrm>
            <a:off x="2340000" y="1125360"/>
            <a:ext cx="633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r graph shows Mr. Snowden’s students by gender and band membersh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Double Bar Graph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438280" y="1600200"/>
          <a:ext cx="312444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600200"/>
                    <a:ext cx="3124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used to compare two related sets of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to make a Double-Bar Graph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987640" y="1773360"/>
            <a:ext cx="5329440" cy="4464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pair of bars for each country’s data. Use different colors to show males and fem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2800" spc="-1" strike="noStrike">
                <a:solidFill>
                  <a:srgbClr val="ffffff"/>
                </a:solidFill>
                <a:latin typeface="Arial"/>
              </a:rPr>
              <a:t>Label the axes and   give the graph a tit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key to show what each bar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The table shows the highway speed limits on interstate roads 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.</a:t>
            </a:r>
            <a:r>
              <a:rPr b="0" lang="ar-BH" sz="3200" spc="-1" strike="noStrike">
                <a:solidFill>
                  <a:srgbClr val="8c0039"/>
                </a:solidFill>
                <a:latin typeface="Arial"/>
              </a:rPr>
              <a:t>within three states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484360" y="1916280"/>
          <a:ext cx="6400800" cy="4495680"/>
        </p:xfrm>
        <a:graphic>
          <a:graphicData uri="http://schemas.openxmlformats.org/drawingml/2006/table">
            <a:tbl>
              <a:tblPr/>
              <a:tblGrid>
                <a:gridCol w="2394000"/>
                <a:gridCol w="2001960"/>
                <a:gridCol w="2004840"/>
              </a:tblGrid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1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6360" y="1557360"/>
            <a:ext cx="3124080" cy="19000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oose a scale and interval for the vertical ax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6"/>
          <p:cNvGraphicFramePr/>
          <p:nvPr/>
        </p:nvGraphicFramePr>
        <p:xfrm>
          <a:off x="4869000" y="1413000"/>
          <a:ext cx="427500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9000" y="1413000"/>
                    <a:ext cx="427500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539640" y="4076640"/>
          <a:ext cx="4276800" cy="2443320"/>
        </p:xfrm>
        <a:graphic>
          <a:graphicData uri="http://schemas.openxmlformats.org/drawingml/2006/table">
            <a:tbl>
              <a:tblPr/>
              <a:tblGrid>
                <a:gridCol w="1600200"/>
                <a:gridCol w="1338480"/>
                <a:gridCol w="133812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tep 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066920" y="404640"/>
            <a:ext cx="4824360" cy="1368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w a pair of bars for each state’s data. Use different colors to show urban and ru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6"/>
          <p:cNvGraphicFramePr/>
          <p:nvPr/>
        </p:nvGraphicFramePr>
        <p:xfrm>
          <a:off x="4356000" y="1916280"/>
          <a:ext cx="4591080" cy="45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1916280"/>
                    <a:ext cx="4591080" cy="45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179280" y="2492280"/>
          <a:ext cx="4033800" cy="2171880"/>
        </p:xfrm>
        <a:graphic>
          <a:graphicData uri="http://schemas.openxmlformats.org/drawingml/2006/table">
            <a:tbl>
              <a:tblPr/>
              <a:tblGrid>
                <a:gridCol w="1508400"/>
                <a:gridCol w="1263600"/>
                <a:gridCol w="126180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rb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BH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or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x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mo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 mi/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8bf9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1T13:29:24Z</dcterms:created>
  <dc:creator>Princess</dc:creator>
  <dc:description/>
  <dc:language>en-US</dc:language>
  <cp:lastModifiedBy>RomaK</cp:lastModifiedBy>
  <dcterms:modified xsi:type="dcterms:W3CDTF">2015-09-04T07:38:01Z</dcterms:modified>
  <cp:revision>14</cp:revision>
  <dc:subject/>
  <dc:title>Bar Graphs and Histograms</dc:title>
</cp:coreProperties>
</file>